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FF9-D23E-4AA3-A0E2-914D094A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2CF-5710-4256-ADE2-A16755D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F21-CCBF-4E83-B579-D76C922B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4B6-86F4-47DE-8434-449E566C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9BD-8C9B-445E-BEC2-16062F90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034-9D4D-4572-B2DA-00C3191D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1BC-D6D5-4AE4-B7F2-D17B5B4E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853-147C-4483-A8CC-C08633C0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426-23CE-4D7D-A7DE-8F66A61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FC0-E3BF-40E0-B70E-8AF1697C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289-2373-4B46-BD2B-139EB70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D23-8E3E-40FA-AF18-0E6B952B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99C7-5E25-402F-A1FA-08F93B5D3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个大人的朋友是谁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http://mapiles.com/blog/wp-content/uploads/2008/11/hilary-clinton.jpg"/>
          <p:cNvPicPr/>
          <p:nvPr/>
        </p:nvPicPr>
        <p:blipFill>
          <a:blip r:embed="rId1"/>
          <a:stretch/>
        </p:blipFill>
        <p:spPr>
          <a:xfrm>
            <a:off x="2514600" y="1905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太大。  我听说一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千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个人住在白宫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cannes-crowds.jpg"/>
          <p:cNvPicPr/>
          <p:nvPr/>
        </p:nvPicPr>
        <p:blipFill>
          <a:blip r:embed="rId1"/>
          <a:stretch/>
        </p:blipFill>
        <p:spPr>
          <a:xfrm>
            <a:off x="1600200" y="15048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可能。  我听说一百个人住在白宫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8" descr="congressMarch2008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白宫太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whitehouse_front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个大人的朋友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总统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ǒngtǒng presid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lsabey\Local Settings\Temporary Internet Files\Content.IE5\FGJUL90C\MCj04402250000[1].wmf"/>
          <p:cNvPicPr/>
          <p:nvPr/>
        </p:nvPicPr>
        <p:blipFill>
          <a:blip r:embed="rId1"/>
          <a:stretch/>
        </p:blipFill>
        <p:spPr>
          <a:xfrm>
            <a:off x="3276720" y="1905120"/>
            <a:ext cx="25844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Obama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总统的朋友是谁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sabey\Local Settings\Temporary Internet Files\Content.IE5\3ULOY7Z0\MCj04396050000[1].png"/>
          <p:cNvPicPr/>
          <p:nvPr/>
        </p:nvPicPr>
        <p:blipFill>
          <a:blip r:embed="rId1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总统的朋友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chelle. Michelle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的太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michelle-obama.jpg"/>
          <p:cNvPicPr/>
          <p:nvPr/>
        </p:nvPicPr>
        <p:blipFill>
          <a:blip r:embed="rId1"/>
          <a:stretch/>
        </p:blipFill>
        <p:spPr>
          <a:xfrm>
            <a:off x="3200400" y="1752480"/>
            <a:ext cx="26938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总统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chelle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几个孩子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lsabey\Local Settings\Temporary Internet Files\Content.IE5\FGJUL90C\MCj04344110000[1].wmf"/>
          <p:cNvPicPr/>
          <p:nvPr/>
        </p:nvPicPr>
        <p:blipFill>
          <a:blip r:embed="rId1"/>
          <a:stretch/>
        </p:blipFill>
        <p:spPr>
          <a:xfrm>
            <a:off x="2895480" y="1976400"/>
            <a:ext cx="2489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有两个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孩子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。她们是女孩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obama-girls_1250715c.jpg"/>
          <p:cNvPicPr/>
          <p:nvPr/>
        </p:nvPicPr>
        <p:blipFill>
          <a:blip r:embed="rId1"/>
          <a:stretch/>
        </p:blipFill>
        <p:spPr>
          <a:xfrm>
            <a:off x="1650960" y="203364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amas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hù liv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在哪里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lsabey\Local Settings\Temporary Internet Files\Content.IE5\FGJUL90C\MPj04373210000[1].jpg"/>
          <p:cNvPicPr/>
          <p:nvPr/>
        </p:nvPicPr>
        <p:blipFill>
          <a:blip r:embed="rId1"/>
          <a:stretch/>
        </p:blipFill>
        <p:spPr>
          <a:xfrm>
            <a:off x="2514600" y="1523880"/>
            <a:ext cx="4867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住在白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gōng pala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whitehouse_front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白宫太大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5:56:19Z</dcterms:created>
  <dc:creator>itsuser</dc:creator>
  <dc:description/>
  <dc:language>en-US</dc:language>
  <cp:lastModifiedBy>itsuser</cp:lastModifiedBy>
  <dcterms:modified xsi:type="dcterms:W3CDTF">2009-04-16T18:09:27Z</dcterms:modified>
  <cp:revision>4</cp:revision>
  <dc:subject/>
  <dc:title>这个大人的朋友是谁？</dc:title>
</cp:coreProperties>
</file>